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680C-CAA7-449E-A923-F8791F73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C234-3A75-4966-A1C8-AD64D0D8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8CFE-AA35-4673-9C74-338A6B93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8145-AA65-47FB-8AFF-5D768FD5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26A4-8305-47EF-870F-40AC5C41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A754-7126-4201-A030-B7D581E7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291D-5F29-40B4-B1B6-87AE989F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00F0-7C99-45A5-9F32-B2FC9721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BA5F-530E-48AC-8BFC-40F82EAE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B858-8159-4DA5-A54A-4D384C06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04D3-9C48-454A-A80D-806AE372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0C4C-5C78-4678-91B6-D35A99AC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C042-4875-4F47-941F-F88CB2F3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0806-A93D-49AE-8688-C32D1E21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14E2-6BCC-4343-B369-C858A038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5B56-4BB7-4D52-9812-D1FCE763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CD1C-8441-4285-9E4E-8E67EE35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6A3ED-BC47-4791-9C94-353AA221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E5785-76DA-44F8-A223-B0079BBF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ADF47-0D6F-47C2-A3DC-3730D929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2D8B5-F281-4BE6-A1AF-C86E5661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03AD3-80FB-47B7-984F-3D643886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FD3C-B1A6-46A4-85F7-5179501B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F7E35-5A33-40F4-BA1C-EBEAA046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AA9C7-4E90-41ED-9F84-3B0E5CE0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02ED9-A29A-4F4D-96B5-A4050F49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63C8E-1CD7-4FE8-9206-08A4C8E2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73327-E075-4241-A610-B382028B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6C297-73EC-47FB-980A-760FDA88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772CE-6F4E-4A54-8688-91226DBE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50D1-F801-4B95-9915-6EE19890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577F-989D-4B4A-97DB-9DA8D907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EC28-6928-44FF-B7BC-2D0D53C9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DA44-EA32-4A91-8A8E-CC045B64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89A2-D70E-4FCF-95C2-E420D826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495D-745E-4588-B96B-0B22FED7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3931-1380-4E20-A347-953D238210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F3A4-B73B-4963-BE1E-6526E3AC42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6F09-4698-4AA4-AFB6-8D08B18D9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ffffff"/>
                </a:solidFill>
                <a:latin typeface="Arial"/>
              </a:rPr>
              <a:t>Anakartla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Sistemin merkezi bileşenid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Üzerinde bakır yolların bulunduğu fiberglastan yapılmış levha şeklinded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Genişleme yuvaları, BIOS, ve çipsetler anakart üzerinde bulun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İşlemci, Bellek, arabirimler, fare klavye ve çeşitli PC arayüz kartları (modem, Ağ, ekran, ses vs.)anakart üzerine takıl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ffffff"/>
                </a:solidFill>
                <a:latin typeface="Arial"/>
              </a:rPr>
              <a:t>ATX Power Connec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457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Standart ATX güç kablosu bilgisayarın güç kaynağından çıkar ve ATX anakartlardaki güç yuvalarına takılı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Bir alt versiyon AT güç kablosudu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788000" y="1413000"/>
            <a:ext cx="3097080" cy="2322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788000" y="3789360"/>
            <a:ext cx="309708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ffffff"/>
                </a:solidFill>
                <a:latin typeface="Arial"/>
              </a:rPr>
              <a:t>Chipse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386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Anakart üzerinde tümleşik olarak bulunan Chipset ses, ekran veya modemin anakart üzerinde bulunduğu durumlarda bu aygıtlardan birini ya da bir kaçını barındırırl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Chipsetin asıl görevi işlemci fonksiyonlarını kontrol etmekt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427640" y="1484280"/>
            <a:ext cx="3768480" cy="4321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435640" y="587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İnternal 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ffffff"/>
                </a:solidFill>
                <a:latin typeface="Arial"/>
              </a:rPr>
              <a:t>Chipse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İşlemcinin bellek erşim şekli ve sınırıyla ilgili mantıksal bilgiler Chipset üzerinde belirlen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Bazı Chipsetler yalnızca bir sınıf işlemciyi desteklerken, bazıları birden çok işlemciyle uyumlu çalışabil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ff"/>
                </a:solidFill>
                <a:latin typeface="Arial"/>
              </a:rPr>
              <a:t>CPU (Central Processing Unit) Sock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üm işlemci soketleri birbirlerine çok benzerler, soketleri birbirinden ayıran yanları Pin sayıları ve dizaynı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42920" y="314172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564000" y="3284640"/>
            <a:ext cx="439272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ff"/>
                </a:solidFill>
                <a:latin typeface="Arial"/>
              </a:rPr>
              <a:t>DIMM (Double Inline Memory Module) Slo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67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En yaygın kullanılan bellek slotları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Diğer bellek slotları ise SIMM ve RIMM’d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Başlıca DIMM standartları PC100, PC133’dü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DDR Ram lerle kullanılan PC2700,PC3200, PC4300 standartları mevcutt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24861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ff"/>
                </a:solidFill>
                <a:latin typeface="Arial"/>
              </a:rPr>
              <a:t>IDE (Integrated Drive Electronics) Connect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74652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Sabit disk, CD sürücüler ve DVD sürücüler IDE kablosu aracılığla IDE yuvalarına bağlan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716360" y="1484280"/>
            <a:ext cx="3456000" cy="2046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2951280" cy="1998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932360" y="3500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ffffff"/>
                </a:solidFill>
                <a:latin typeface="Arial"/>
              </a:rPr>
              <a:t>Floppy Drive Connec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6752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Disket sürücünün ankart üzerine bağlandığı yuv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Anakart üzerinde sadece 1 adet Disket sürücü yuvası bulun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356000" y="2708280"/>
            <a:ext cx="4056120" cy="3041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292720" y="2205000"/>
            <a:ext cx="576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56000" y="1773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et Sürücü Yuvas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ffffff"/>
                </a:solidFill>
                <a:latin typeface="Arial"/>
              </a:rPr>
              <a:t>MotherBoard Batt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033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Anakart üzerinde elektrik akımı olmadığı durumlarda bazı önemli bilgilerin tutulması amacıyla kullanılan çok küçük bir güce sahip pild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3840120" cy="2952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flipV="1">
            <a:off x="6948360" y="2421000"/>
            <a:ext cx="71928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76720" y="515772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Bios P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ff"/>
                </a:solidFill>
                <a:latin typeface="Arial"/>
              </a:rPr>
              <a:t>BIOS(Basic Input Output System)Chi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38616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Anakarta Sistem açılışında gerekli olan bilgiler ve sistemin neleri desteklediği ile ilgili bilgiler mevcutt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35272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ffffff"/>
                </a:solidFill>
                <a:latin typeface="Arial"/>
              </a:rPr>
              <a:t>PS/2 Connecto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3148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TX anakartlar üzerinde 2 adet PS/2 yuva bulunur. Biri mouse diğeri klavye içind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Genellikle farklı renktedirler.Bu renklerden yeşil olan mouse, mor olan klavye içind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00720" y="1413000"/>
            <a:ext cx="34747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ffffff"/>
                </a:solidFill>
                <a:latin typeface="Arial"/>
              </a:rPr>
              <a:t>Anakartla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Anakartlar genellikle desteklediği işlemci türünün ismi ile anıl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Günümüzde PIII, Pentium 4 anakart gibi deyimler kullanılmakta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200" spc="-1" strike="noStrike">
                <a:solidFill>
                  <a:srgbClr val="ffffff"/>
                </a:solidFill>
                <a:latin typeface="Arial"/>
              </a:rPr>
              <a:t>USB (Universal Serial Bus) 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386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arici porttur. Aygıtı takıp çıkartırken bilgisayarı kapatma zorunluluğu yokt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Genellikle 2 USB port ve ekstra alternatif 2 kablo seçeneği ile üretilmekte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995640" y="1773360"/>
            <a:ext cx="44164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ff"/>
                </a:solidFill>
                <a:latin typeface="Arial"/>
              </a:rPr>
              <a:t>Paralel Port / COM (Comunications) P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38616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arayıcı ve yazıcı bağlantıları için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aralel port üzerinden eğer 8 bit genişliğinde bir kanal kullanıyorsa bir seferde 8 bit veri gönderi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om Portlar fare ve harici modem bağlantıları için kullanılı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140360" y="2133720"/>
            <a:ext cx="4055760" cy="3041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51640" y="1773360"/>
            <a:ext cx="72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11640" y="1341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Paralel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03280" y="3789360"/>
            <a:ext cx="86364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084720" y="3789360"/>
            <a:ext cx="107964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27640" y="566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COM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ff"/>
                </a:solidFill>
                <a:latin typeface="Arial"/>
              </a:rPr>
              <a:t>Game Port / Sound Card Connecto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4578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Oyun portu ses kartları üzerinde yer alan seri bir porttur.ses kartı anakart üstünde bulunuyorsa oyun portuda anakart üzerinde bulunabi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es kartını chipset olarak bulunduğu durumlarda anakart üzerinde Sound Card Connectors bulun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067280" y="1484280"/>
            <a:ext cx="2663640" cy="1997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067280" y="3573360"/>
            <a:ext cx="2736720" cy="20527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 flipH="1">
            <a:off x="5867280" y="1628640"/>
            <a:ext cx="1368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36000" y="1341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Game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643280" y="2637000"/>
            <a:ext cx="26654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236000" y="2421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Çıkış/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579640" y="3284640"/>
            <a:ext cx="1800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80360" y="3068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riş/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659640" y="3933720"/>
            <a:ext cx="79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80360" y="3645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krof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Anakart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71380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ff"/>
                </a:solidFill>
                <a:latin typeface="Arial"/>
              </a:rPr>
              <a:t>ISA (Industry Standart Architecture) Slo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SA slotlar eski tip iç bağlantılarda modem,ses,ekran,ağ gibi bağlantılarda kullanılıyord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PCI ve AGP ye nazaran yavaş bir veriyolud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Maksimum 8 MHz. Hızında çalışı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SA 16 bit veriyoluna sahip olup, eşzamanlı olarak 16 bit veriye ulaşabil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859280" y="1484280"/>
            <a:ext cx="3132360" cy="4176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148360" y="5661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ISA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ffff"/>
                </a:solidFill>
                <a:latin typeface="Arial"/>
              </a:rPr>
              <a:t>PCI (Peripheral Component Interconnect) Slo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249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PCI veriyolu Intel tarafından geliştirild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Anakart üzerinde 1 ile 6 arasında PCI slot bulun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32 bit veriyolu kapasitesine sahip, 33MHz. Hızında çalışı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İşletim sistemlerinin Tak&amp;Çalıştır (Plug&amp;Play) özelliğini destekl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808520" y="1413000"/>
            <a:ext cx="3294000" cy="4392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003640" y="587700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PCI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800" spc="-1" strike="noStrike">
                <a:solidFill>
                  <a:srgbClr val="ffffff"/>
                </a:solidFill>
                <a:latin typeface="Arial"/>
              </a:rPr>
              <a:t>AGP (Accelerated Graphics Port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97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Özellikle Görüntü kartları için dizayn edilmişt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AGP 66 MHz 1x, 133 MHz  2x,              266 MHz 4x …hızlarıyla oldukça hızlı bir veriyolu hemde ana bellek ile daha çabuk iletişimi sağlayan bir portt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32 bit kapasiteli , PCI 2.1 standartını kullanan ,Hızı 33 MHz yerine 66MHz’dir.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580000" y="1484280"/>
            <a:ext cx="2916360" cy="388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43640" y="551664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AGP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22:51:02Z</dcterms:created>
  <dc:creator>kocaeli univ</dc:creator>
  <dc:description/>
  <dc:language>en-US</dc:language>
  <cp:lastModifiedBy>YONETICI</cp:lastModifiedBy>
  <dcterms:modified xsi:type="dcterms:W3CDTF">2007-03-01T11:53:20Z</dcterms:modified>
  <cp:revision>9</cp:revision>
  <dc:subject/>
  <dc:title>Temel Donaným Bileþenleri</dc:title>
</cp:coreProperties>
</file>